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9833-E2E1-47BD-B5B0-65F8D0B51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4C39-8248-4137-80CE-BBDCC4D5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8257-FF15-4BE7-A2E4-EA6E3DB2F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C186-373B-4E01-9D2B-50903E3F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2BEC-165A-43FA-83D2-362FE3F6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A558-7A37-4CB2-81EE-4B2CB913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D125-5431-4CFD-8B03-52BCCF66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115D-3B5B-44A9-8B27-51B1383E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FC42-3311-47C1-B072-41A09130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C7B8-3932-4588-A10A-42263451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281A-8828-458B-BD5B-56CC7DF7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8C47-67BC-4478-9BF5-9AE649D4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10DA-194A-4422-89D8-689F7FE43B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Time series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mbria Math"/>
              </a:rPr>
              <a:t>4E Median smoothing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Median smoothing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An alternative to moving-average smoothing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A faster technique that requires no calculations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amples: Ex 4E, Q.1, 3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You do Ex 4E, Q.2, 4, 5, 6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57200" y="285840"/>
          <a:ext cx="8472600" cy="6357960"/>
        </p:xfrm>
        <a:graphic>
          <a:graphicData uri="http://schemas.openxmlformats.org/drawingml/2006/table">
            <a:tbl>
              <a:tblPr/>
              <a:tblGrid>
                <a:gridCol w="2824200"/>
                <a:gridCol w="2824200"/>
                <a:gridCol w="28242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dian smoothed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3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8329680" cy="58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22:30:42Z</dcterms:created>
  <dc:creator>08843474</dc:creator>
  <dc:description/>
  <dc:language>en-US</dc:language>
  <cp:lastModifiedBy>08843474</cp:lastModifiedBy>
  <dcterms:modified xsi:type="dcterms:W3CDTF">2011-03-31T00:10:46Z</dcterms:modified>
  <cp:revision>2</cp:revision>
  <dc:subject/>
  <dc:title>Time series</dc:title>
</cp:coreProperties>
</file>